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D36-9E3E-49A5-9592-DD749E9E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6FE-DB97-4295-AE00-A3D88B4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292-65B6-4E71-AC11-D96CEDF7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D5F-EE83-4BE3-B75A-2C8B932B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8C82-B44B-4C33-9C7A-1E3F02BD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0908-BB1A-4A72-A991-9B3D69E2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B2B-29BA-44CC-973A-F5466A9F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118-2010-4979-8286-7A09CCD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6C6-83A8-4B55-A461-EF77B6B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7794-7560-4DEB-A22B-011DB141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245-1830-4E6C-8789-07E7C6D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204-39CB-4728-8888-81D8CC1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5F5F-3434-42CD-AAC2-A7F379C6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CABF-7239-40B8-AD2E-CDF1195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A213-253F-4226-9378-0E2A6CB3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0797-20D8-4841-B65F-DA62A700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684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9280" y="134136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684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9280" y="3818520"/>
            <a:ext cx="264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1642-0AA9-41E5-BFAA-2B32441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A4B-07FA-4676-A4B2-0247A149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AD0-1A2A-4A7F-9844-AB2A39F4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2B5-72E6-414D-93B1-D39B624B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A07-8A2F-4427-A057-2655B09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0EC-75C9-4A36-AF65-22DA3B89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440" y="381852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FB6-B629-4D6A-9828-A67D2AE8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440" y="1341360"/>
            <a:ext cx="40158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18520"/>
            <a:ext cx="822960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9A3-AF1A-4EE3-80EE-9C578F6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DD2-D519-4CDD-83BF-13BC66B859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verano"/>
          <p:cNvPicPr/>
          <p:nvPr/>
        </p:nvPicPr>
        <p:blipFill>
          <a:blip r:embed="rId2"/>
          <a:srcRect l="0" t="0" r="51972" b="0"/>
          <a:stretch/>
        </p:blipFill>
        <p:spPr>
          <a:xfrm>
            <a:off x="6141960" y="0"/>
            <a:ext cx="30020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4762440" y="2863800"/>
            <a:ext cx="2685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Picture 10" descr="logo-insp"/>
          <p:cNvPicPr/>
          <p:nvPr/>
        </p:nvPicPr>
        <p:blipFill>
          <a:blip r:embed="rId3"/>
          <a:stretch/>
        </p:blipFill>
        <p:spPr>
          <a:xfrm>
            <a:off x="108000" y="187200"/>
            <a:ext cx="1457280" cy="5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rograma de Actualización"/>
          <p:cNvPicPr/>
          <p:nvPr/>
        </p:nvPicPr>
        <p:blipFill>
          <a:blip r:embed="rId4"/>
          <a:stretch/>
        </p:blipFill>
        <p:spPr>
          <a:xfrm>
            <a:off x="7715160" y="6000840"/>
            <a:ext cx="1357560" cy="646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341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713-FEE3-4B2D-AAC2-6E143DFE5C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00"/>
                </a:solidFill>
                <a:latin typeface="Arial"/>
                <a:ea typeface="Tahoma"/>
              </a:rPr>
              <a:t>Política del     ELEF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http://cruzvillafuerte.perublog.net/2007/07/18/elefante"/>
          <p:cNvPicPr/>
          <p:nvPr/>
        </p:nvPicPr>
        <p:blipFill>
          <a:blip r:embed="rId1"/>
          <a:stretch/>
        </p:blipFill>
        <p:spPr>
          <a:xfrm>
            <a:off x="971640" y="1314360"/>
            <a:ext cx="6840360" cy="5151600"/>
          </a:xfrm>
          <a:prstGeom prst="rect">
            <a:avLst/>
          </a:prstGeom>
          <a:ln w="0">
            <a:noFill/>
          </a:ln>
        </p:spPr>
      </p:pic>
      <p:sp>
        <p:nvSpPr>
          <p:cNvPr id="93" name="Line 8"/>
          <p:cNvSpPr/>
          <p:nvPr/>
        </p:nvSpPr>
        <p:spPr>
          <a:xfrm flipV="1">
            <a:off x="4788000" y="1125360"/>
            <a:ext cx="33130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817760" y="620640"/>
            <a:ext cx="1474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5940360" y="2060640"/>
            <a:ext cx="22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7974000" y="1724040"/>
            <a:ext cx="624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í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12"/>
          <p:cNvSpPr/>
          <p:nvPr/>
        </p:nvSpPr>
        <p:spPr>
          <a:xfrm flipH="1" flipV="1">
            <a:off x="395280" y="1773000"/>
            <a:ext cx="223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-26640" y="1219320"/>
            <a:ext cx="86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14"/>
          <p:cNvSpPr/>
          <p:nvPr/>
        </p:nvSpPr>
        <p:spPr>
          <a:xfrm flipH="1" flipV="1">
            <a:off x="755640" y="3068280"/>
            <a:ext cx="1440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-88560" y="2179800"/>
            <a:ext cx="1445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queñ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 flipH="1" flipV="1">
            <a:off x="684000" y="4724280"/>
            <a:ext cx="1871640" cy="136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-47880" y="3975120"/>
            <a:ext cx="1538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lan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18"/>
          <p:cNvSpPr/>
          <p:nvPr/>
        </p:nvSpPr>
        <p:spPr>
          <a:xfrm flipV="1">
            <a:off x="4932360" y="29970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7909920" y="2565360"/>
            <a:ext cx="135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lfat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5292720" y="4076640"/>
            <a:ext cx="2774880" cy="495360"/>
          </a:xfrm>
          <a:prstGeom prst="line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7938000" y="4191120"/>
            <a:ext cx="1328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Y sob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9:52:58Z</dcterms:created>
  <dc:creator>mlgontes</dc:creator>
  <dc:description/>
  <dc:language>en-US</dc:language>
  <cp:lastModifiedBy>francisco.molina</cp:lastModifiedBy>
  <dcterms:modified xsi:type="dcterms:W3CDTF">2012-04-27T17:32:30Z</dcterms:modified>
  <cp:revision>81</cp:revision>
  <dc:subject/>
  <dc:title>¿QUÉ HACEN LOS DIRECTIVOS Y QUÉ HABILIDADES NECESITAN PARA UN TRABAJO EFECTIVO?</dc:title>
</cp:coreProperties>
</file>